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5B0-A33C-4D79-9DA2-F4FE8EC3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DD3-5E8A-4A61-9576-A0B1928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89D-1362-4E93-9491-168D206E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3C4-B501-4D29-87AA-61DF6144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A6C-B37E-436B-84CA-57DF47FD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64A-6349-4B1F-B773-38523A9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3C7-C370-48C8-B09A-B487A5C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C61-F248-4DC0-939A-E6BEACC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9C1-1793-4E6D-B32B-0B1A5D8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674-299A-4CF4-AFD2-0C1FEC7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A4E-8C4E-4B29-B9A6-1A7C6AFD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EFE-BD9D-4016-97D1-A78FF73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6A15-7E4E-45E6-AF82-57DFEDF17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22360" y="597708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neva"/>
              </a:rPr>
              <a:t>1ro de octubre de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508720" y="3284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33"/>
                </a:solidFill>
                <a:latin typeface="Geneva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8000" y="-27000"/>
            <a:ext cx="69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Evaluación de Proyectos en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98520" y="2568600"/>
            <a:ext cx="4745160" cy="17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92360" y="2708280"/>
            <a:ext cx="1019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EVALU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206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82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2421000"/>
            <a:ext cx="2017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NO EVALU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45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18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084640"/>
            <a:ext cx="280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Proyectos: 2,5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08000" y="-27000"/>
            <a:ext cx="69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Evaluación de Proyectos por E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549360"/>
          <a:ext cx="8496000" cy="59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549360"/>
                    <a:ext cx="849600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04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yectos evaluados por Eje Estratégico del P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4978440" cy="165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2924280"/>
            <a:ext cx="1019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GOBIER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21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91200" y="2638440"/>
            <a:ext cx="2017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INNOVACION EDUCATI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6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4222800"/>
            <a:ext cx="80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GEST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4365720"/>
            <a:ext cx="2017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INTERNACIONALIZ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15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7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4581360"/>
            <a:ext cx="2017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EXTEN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35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17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3573360"/>
            <a:ext cx="14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INVESTIG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3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333333"/>
                </a:solidFill>
                <a:latin typeface="Arial"/>
              </a:rPr>
              <a:t>1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5300640"/>
            <a:ext cx="280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Proyectos: 2,0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87280" y="158760"/>
            <a:ext cx="763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Proyectos Evaluados de la Administración General</a:t>
            </a:r>
            <a:br>
              <a:rPr sz="2400"/>
            </a:b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por Eje Estraté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5480" y="1773360"/>
          <a:ext cx="7275600" cy="364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773360"/>
                    <a:ext cx="72756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26920" y="1628640"/>
            <a:ext cx="280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Proyectos: 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0000" y="1252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Proyectos Evaluados de los Centros Temáticos por Eje Estraté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2130480"/>
          <a:ext cx="6804000" cy="420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130480"/>
                    <a:ext cx="680400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26920" y="1628640"/>
            <a:ext cx="280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Proyectos: 1,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1560" y="115920"/>
            <a:ext cx="82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Proyectos Evaluados de los Centros Regionales y Campi por Eje Estraté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2060640"/>
          <a:ext cx="685188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060640"/>
                    <a:ext cx="68518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826920" y="1628640"/>
            <a:ext cx="2808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Proyectos: 4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11280" y="260280"/>
            <a:ext cx="6418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yectos alineados al P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2720" y="2077920"/>
          <a:ext cx="8136000" cy="263376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36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yectos evalu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ineados al PD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 recursos económicos distribuido en proyectos alin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4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2000" y="189000"/>
            <a:ext cx="7499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yectos alineados al PD de la E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2720" y="2079720"/>
          <a:ext cx="8136000" cy="2554200"/>
        </p:xfrm>
        <a:graphic>
          <a:graphicData uri="http://schemas.openxmlformats.org/drawingml/2006/table">
            <a:tbl>
              <a:tblPr/>
              <a:tblGrid>
                <a:gridCol w="2033640"/>
                <a:gridCol w="1998720"/>
                <a:gridCol w="2070000"/>
                <a:gridCol w="20336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yectos evalu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ineados al PD de la Ent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 recursos económicos distribuido en proyectos alin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2.22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2.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73200" y="260280"/>
            <a:ext cx="62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yectos alineados al PD de la 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2720" y="2079720"/>
          <a:ext cx="8136000" cy="263196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36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yectos evalu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ineados al PD de la 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 recursos económicos distribuido en proyectos alin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116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0.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.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3789360"/>
            <a:ext cx="302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es-ES" sz="1500" spc="-1" strike="noStrike">
                <a:solidFill>
                  <a:srgbClr val="333333"/>
                </a:solidFill>
                <a:latin typeface="Geneva"/>
              </a:rPr>
              <a:t>Comisión Especial</a:t>
            </a:r>
            <a:br>
              <a:rPr sz="1500"/>
            </a:br>
            <a:br>
              <a:rPr sz="1400"/>
            </a:b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Lauro Salvador Delgado Romero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Fabiola de Santos Ávila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Ricardo Xicoténcatl García Cauzor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Albert Héctor Medel Ruiz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César Octavio Monzón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Carlos Moya Jiménez </a:t>
            </a:r>
            <a:br>
              <a:rPr sz="1400"/>
            </a:b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Irma Susana Pérez García</a:t>
            </a:r>
            <a:br>
              <a:rPr sz="15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500280"/>
            <a:ext cx="374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333333"/>
                </a:solidFill>
                <a:latin typeface="Geneva"/>
              </a:rPr>
              <a:t>Coordinación Gener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Comisión de Seguimiento del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03640" y="115920"/>
            <a:ext cx="3789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3672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</a:t>
            </a: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Metas en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Alineados</a:t>
            </a: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: 2,6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8000" y="2482920"/>
            <a:ext cx="5094360" cy="1890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79640" y="3860640"/>
            <a:ext cx="1131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199 metas no aline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492280"/>
            <a:ext cx="1295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2477 metas aline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92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03640" y="115920"/>
            <a:ext cx="3789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Metas alineadas al P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1920" y="2881440"/>
            <a:ext cx="4978440" cy="1650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7280" y="2997360"/>
            <a:ext cx="1132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E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84640" y="4365720"/>
            <a:ext cx="20178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REG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4680" y="2565360"/>
            <a:ext cx="823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628640"/>
            <a:ext cx="28083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Total de </a:t>
            </a: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Metas alineadas</a:t>
            </a:r>
            <a:r>
              <a:rPr b="1" lang="es-MX" sz="1200" spc="-1" strike="noStrike">
                <a:solidFill>
                  <a:srgbClr val="333333"/>
                </a:solidFill>
                <a:latin typeface="Arial"/>
              </a:rPr>
              <a:t>: 2,4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35280" y="115920"/>
            <a:ext cx="69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Metas de proyectos alineados por eje estratégico del P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79640" y="2709720"/>
            <a:ext cx="4978440" cy="1651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2349360"/>
            <a:ext cx="101916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9280" y="4033800"/>
            <a:ext cx="20178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NOVACION EDUC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078440"/>
            <a:ext cx="10242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5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422440"/>
            <a:ext cx="20178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TERNACION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286080"/>
            <a:ext cx="108288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XTEN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2494080"/>
            <a:ext cx="140004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84280"/>
            <a:ext cx="2808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33"/>
                </a:solidFill>
                <a:latin typeface="Arial"/>
              </a:rPr>
              <a:t>Total de</a:t>
            </a: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 Me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33"/>
                </a:solidFill>
                <a:latin typeface="Arial"/>
              </a:rPr>
              <a:t>alineadas</a:t>
            </a:r>
            <a:r>
              <a:rPr b="0" lang="es-MX" sz="1400" spc="-1" strike="noStrike">
                <a:solidFill>
                  <a:srgbClr val="333333"/>
                </a:solidFill>
                <a:latin typeface="Arial"/>
              </a:rPr>
              <a:t>: 2,4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5120" y="25704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Geneva"/>
                <a:ea typeface="Arial"/>
              </a:rPr>
              <a:t>FRECUENCIA DE METAS ALINEADAS AL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Geneva"/>
                <a:ea typeface="Arial"/>
              </a:rPr>
              <a:t>(PROYECTOS ALINE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6520" y="838080"/>
            <a:ext cx="27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eneva"/>
                <a:ea typeface="Arial"/>
              </a:rPr>
              <a:t>EJE INNOVACI</a:t>
            </a:r>
            <a:r>
              <a:rPr b="1" lang="es-MX" sz="1400" spc="-1" strike="noStrike">
                <a:solidFill>
                  <a:srgbClr val="333333"/>
                </a:solidFill>
                <a:latin typeface="Geneva"/>
                <a:ea typeface="Arial"/>
              </a:rPr>
              <a:t>ÓN EDUC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509840"/>
            <a:ext cx="8569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13840" y="32868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Geneva"/>
                <a:ea typeface="Arial"/>
              </a:rPr>
              <a:t>FRECUENCIA DE METAS ALINEADAS AL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Geneva"/>
                <a:ea typeface="Arial"/>
              </a:rPr>
              <a:t>(PROYECTOS ALINE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5520" y="838080"/>
            <a:ext cx="19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eneva"/>
                <a:ea typeface="Arial"/>
              </a:rPr>
              <a:t>EJE INVESTIG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1243080"/>
            <a:ext cx="8569080" cy="210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8569080" cy="182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6720" y="357336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JE INTERNACIO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5120" y="32868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Geneva"/>
                <a:ea typeface="Arial"/>
              </a:rPr>
              <a:t>FRECUENCIA DE METAS ALINEADAS AL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Geneva"/>
                <a:ea typeface="Arial"/>
              </a:rPr>
              <a:t>(PROYECTOS ALINE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360" y="54936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JE EXTEN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838080"/>
            <a:ext cx="8713800" cy="2135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0920" y="3357720"/>
            <a:ext cx="8713800" cy="156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640" y="307008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JE 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50920" y="5294160"/>
            <a:ext cx="8713800" cy="115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4440" y="50133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JE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50920" y="6600960"/>
            <a:ext cx="871848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CONTRASTACIÓN DEL EJERCICIO PRESUPUESTAL REPORTADO EN EL SIIAU A TRAVÉS DE LOS FORMATOS INTEGRADORES Y LOS REPORTE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328760" y="907920"/>
          <a:ext cx="6486480" cy="5531040"/>
        </p:xfrm>
        <a:graphic>
          <a:graphicData uri="http://schemas.openxmlformats.org/drawingml/2006/table">
            <a:tbl>
              <a:tblPr/>
              <a:tblGrid>
                <a:gridCol w="3246480"/>
                <a:gridCol w="1473120"/>
                <a:gridCol w="17668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mprobación en el SII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mprobación ante la Dirección de 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A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86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1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A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IE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CS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LA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VA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84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75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Formatos Integradores de Reportes de Proyecto P3E 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203640" y="13032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33"/>
                </a:solidFill>
                <a:latin typeface="Geneva"/>
              </a:rPr>
              <a:t>Porcentaje de Comprobación de los Recursos Financieros Ejercidos por Entidad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 documento “Políticas y Normas para el ejercicio del presupuesto de Ingresos y Egresos 2003”, señala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3.1. La comprobación de los recursos ejercidos (calendario de ministraciones) 60 días natu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3.3. Las erogaciónes deberán quedar debidamente amparadas en la Dirección de Finanz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333333"/>
                </a:solidFill>
                <a:latin typeface="Arial"/>
              </a:rPr>
              <a:t>3.6. El cumplimiento del calendario de ministraciones aprob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15920"/>
            <a:ext cx="551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Análisis del Reporte Técnico del Ejercicio P3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76720" y="115920"/>
            <a:ext cx="551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Análisis del Reporte Técnico del Ejercicio P3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5960" y="3249720"/>
            <a:ext cx="5032080" cy="1616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63640" y="3049560"/>
            <a:ext cx="12985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257560"/>
            <a:ext cx="2808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333333"/>
                </a:solidFill>
                <a:latin typeface="Arial"/>
              </a:rPr>
              <a:t>Adeudos 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3193920"/>
            <a:ext cx="2376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Administración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705200"/>
            <a:ext cx="23763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entros Universitar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341360"/>
            <a:ext cx="7370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orte Técnico de la Dirección de Finanzas (corte del 16 de julio de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eudos de 2003 ($70’787,539.10 pes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4240" y="1268280"/>
            <a:ext cx="77155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a realización de este primer ejercicio de evaluación se seleccionaron los proyectos elaborados e integrados al SIIAU en el año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Se reconoce que el proceso fue accidentado, con múltiples logros y problemá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recuperación de las experiencias y resultados permitieron mejorar la operación del Sistema P3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76720" y="352440"/>
            <a:ext cx="551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Análisis del Reporte Técnico del Ejercicio P3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1649520"/>
          <a:ext cx="7859520" cy="3357360"/>
        </p:xfrm>
        <a:graphic>
          <a:graphicData uri="http://schemas.openxmlformats.org/drawingml/2006/table">
            <a:tbl>
              <a:tblPr/>
              <a:tblGrid>
                <a:gridCol w="4489200"/>
                <a:gridCol w="1825920"/>
                <a:gridCol w="1544400"/>
              </a:tblGrid>
              <a:tr h="398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udos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ión Gen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22,227.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s Univers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000,222.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65,088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,787,539.10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ente: UDI con base a datos de la Dirección de Finanzas al 16/07/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421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33"/>
                </a:solidFill>
                <a:latin typeface="Geneva"/>
              </a:rPr>
              <a:t>Resultados de la Información Obtenida de los Formatos Integradores y de los Reportes de Evaluación por Entidad 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bl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873000"/>
            <a:ext cx="78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Geneva"/>
              </a:rPr>
              <a:t>PLA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EL proceso de planeación participativa no fue generalizado en todas las entidades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Desarticulación entre los procesos del P3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No se contó con un Sistema de Indicadores Institu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Insuficiente capacitación y asesoría para los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Ausencia de guías metodológicas y de definición de concep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Ausencia de información actualizada sobre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No existieron criterios claros para evaluar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scepticismo y resistencia al cambio, actitudes críticas / sin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47640" y="116532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Geneva"/>
              </a:rPr>
              <a:t>OPERACIÓN DE PROYECTOS Y GESTIO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Los recursos financieros no estuvieron disponibles en los tiempos requ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Insuficiencia en los recursos financieros proy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No se dispuso de los recursos materiales y humanos suficientes para capturar y manejar la información en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Falta de lineamientos claros para reprogramar el destino del dinero en el caso de que las metas no puedan cumpli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alta de eficiencia en la operación administrativa del presupuesto (controles, comprobacion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bl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112392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Geneva"/>
              </a:rPr>
              <a:t>SISTEMA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lta mayor congruencia entre lo planeado y lo programado (con respecto a los 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blemas técnicos del sistema  y contradicción para comprobar en SIIAU y ante la Dirección de Finanz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IAU no permitió cambios posteriores en los proyectos, le falta flexiblidad ante lo cambiante de la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lta de estabilidad del sistema P3E-SIIAU, dada la modificación permanente por problemas técnicos y de operación de la base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bl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125360"/>
            <a:ext cx="82296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Geneva"/>
              </a:rPr>
              <a:t>SISTEMA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Limitaciones en el formato electrónico para globalizar resultados (captura, ejercicio, evalu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 sistema no facilita dar seguimiento a proyectos multianuales y con otro tipo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Inconsistencia entre la información del formato integrador y el reporte que se obtiene en SII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 elevado costo/horas hombre para realizar la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bl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5520" y="907920"/>
            <a:ext cx="82915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Geneva"/>
              </a:rPr>
              <a:t>PLAN DE DESARROLL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visar en el PDI su avance y cumplimiento de las metas, con el compromiso de las entidades de la Red para contribuir al logro de la Visió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Impulsar procesos sistemáticos y permanentes de carácter participativo para la elaboración de los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Proporcionar capacitación y apoyo permanente para los usuarios del sistema en todos los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Fortalecer una cultura de la planeación y evaluación permanente que retroalimente al sistema, a partir de criterios  claros para medir s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Mejorar ó retroalimentar el proceso de elaboración del Presupuesto de Ingresos y Egresos 2005 con base en los resultados de est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404640"/>
            <a:ext cx="8893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Geneva"/>
              </a:rPr>
              <a:t>NORMAS Y POLI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visar y actualizar marco normativo relativo al Sistema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La evaluación se debe sistematizar e institucionalizar a través de generar e implantar acciones permanentes de seguimiento y evaluación de los proyectos y del cumplimiento de sus m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Que las dependencias centrales involucradas, resuelvan desacuerdos para evitar instrucciones contradictorias y cambios sobre la marcha (SIIAUFin y SIIAU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aborar manuales de procedimientos, que precisen en tiempo y forma los criterios para el ejercicio presupuestal y flexibilizar la programación a nivel de capitulo de concepto de g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Revisar las normas, los criterios y las políticas de operación de los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Los gastos de operación (servicios básicos) no deben quedar sujetos a programación de proyectos dado que son fundamentales para el funcionamiento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0600" y="1197000"/>
            <a:ext cx="8362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Geneva"/>
              </a:rPr>
              <a:t>SISTEMA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Establecer criterios más claro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para el manejo de la herramienta SII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istema contable único, homogéneo y práctico para toda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e posea una estructura sencilla, amigable, operativa, funcional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Mejorar el Sistema en su conjunto y que sea un instrumento para la gestión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Arial"/>
              </a:rPr>
              <a:t>Flexibilizar la operación de los proyectos en el SIIAU, para su modificación y/o cr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Capacitación y asesoría (no solo técnica del SIIAU) sobre gestión financiera (programación, presupuestación y comprobación) para todas las Entidades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592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0600" y="1025640"/>
            <a:ext cx="83628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Geneva"/>
              </a:rPr>
              <a:t>SISTEMA P3E </a:t>
            </a:r>
            <a:r>
              <a:rPr b="0" lang="es-MX" sz="1400" spc="-1" strike="noStrike">
                <a:solidFill>
                  <a:srgbClr val="333333"/>
                </a:solidFill>
                <a:latin typeface="Geneva"/>
              </a:rPr>
              <a:t>(continu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Crear un Consejo Técnico para el Sistema P3E, con representantes de cada Entidad, que oriente, dé seguimiento y capacite a los usuarios en todos los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Dar seguimiento a los índices de las metas de los proyectos, para registrar su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Generar diferentes tipos de reportes/informes periódicos (técnicos y financieros, parciales y glob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Revisar campos que se requieren en SIIAU relacionados con la captura de proyectos (catálogo de gastos, recursos humanos, entre ot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e SIIAU facilite el ingreso y seguimiento a proyectos multianuales y de otro tipo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existía una cultura de distribución presupuestal por proyectos y teniendo como soporte un sistem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ones encontradas entre los diversos actore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io un periodo de aju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supuesto institucional 2003 fue aprobado en marzo de ese mismo año y las primeras ministraciones se recibieron posterio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jercicio 2003 fue el fundamento para el proceso de consolidación del sistema de Planeación, Programación, Presupuestación y Evaluación en la Red Universit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3280" y="3284640"/>
            <a:ext cx="33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33"/>
                </a:solidFill>
                <a:latin typeface="Genev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33"/>
                </a:solidFill>
                <a:latin typeface="Geneva"/>
              </a:rPr>
              <a:t>Proceso P3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4046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Arial"/>
              </a:rPr>
              <a:t>Objetivo: Identificar la alineación entre las metas plasmadas en el Plan de Desarrollo Institucional (PDI), y las metas establecidas en los planes de desarrollo de las entidades de la Red y en los de cada Unidad Responsable de Gasto (U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verifique y se dé seguimiento a los planes de desarrollo (entidades y URG) respecto a su congruencia con el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ien construya proyectos, conozca los plane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Los órganos colegiados deben llegar a acuerdos, para la programación y así determinar las prioridades institucionales a considerar en el ejercicio presupuestal inmediato, en correspondencia con sus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Los planes de desarrollo vigentes, estén en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realicen proyectos integrales y no específicos (p.e. compra de un equipo, sin dar el contexto de uso en el ámbito académ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propicien acciones colegiadas en las cuales se determine el grado de alineación de las metas de los proyectos, con los planes de desarrollo de la entidad y de la URG respecto al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34136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Geneva"/>
              </a:rPr>
              <a:t>Objetivo: Sistematizar la problemática surgida durante el proceso de planeación de los proyectos evaluados, reportada por las diversas entidades de la Red así como las propuestas de solución o mej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impulsen procesos sistemáticos de carácter colegiado para la elaboración de los proyectos, apoyados con acciones previas de capacitación y asesoría permanente, donde se incluya el análisis de los referentes institucionales ( PD’s entre ot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fortalezca una cultura de la planeación y evaluación continua que retroalimente al Sistema, a partir de criterios  precisos para medir s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evalúe y se realice seguimiento de manera sistemática del avance o cumplimiento de los objetivos y metas de los planes de desarrollo en los tres nive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elaboren, difundan y revisen periódicamente guías metodológicas que apoyen el proceso del P3E y den cuenta de su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1360440"/>
            <a:ext cx="82296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Geneva"/>
              </a:rPr>
              <a:t>Objetivo: Identificar la problemática surgida en la operación y gestión financiera de los proyectos evaluados en las diversas entidades de la Red, así como sistematizar las propuestas de solución o mej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e 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talezca el seguimiento en el cumplimiento y actualización de las normas y políticas que rigen el presupuesto de ingresos y egresos de la universidad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Se mantenga la actual política de entrega oportuna de los recursos según lo plan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La existencia de un sistema contable único, homogéneo y práctico para toda la Red y por tanto, una sola vía para comprobar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 algn="just">
              <a:lnSpc>
                <a:spcPct val="95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Agilizar procesos de comprobación y de revisión de la comprobación para tener fluidez en el ejercici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200" y="728640"/>
            <a:ext cx="85345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c1c1c"/>
                </a:solidFill>
                <a:latin typeface="Geneva"/>
              </a:rPr>
              <a:t>Objetivo: La problemática general del Sistema P3E a partir de los proyectos evaluados por las diversas entidades de la Red así como sistematizar las propuestas para hacerlo más eficiente y perti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c1c1c"/>
                </a:solidFill>
                <a:latin typeface="Arial"/>
              </a:rPr>
              <a:t>Establecer una figura externa a las entidades directamente involucradas, que valide la congruencia de la información capturada en el sistema con respecto a los referentes que rigen las actividades de la i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c1c1c"/>
                </a:solidFill>
                <a:latin typeface="Arial"/>
                <a:ea typeface="Times New Roman"/>
              </a:rPr>
              <a:t>Establecer una figura responsable de la evaluación y seguimiento desde la elaboración de proyectos, hasta la entrega de resultados, verificando la congruencia con los Planes de Desarrollo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c1c1c"/>
                </a:solidFill>
                <a:latin typeface="Arial"/>
                <a:ea typeface="Times New Roman"/>
              </a:rPr>
              <a:t>Avanzar en la mejora continua de los criterios para el manejo de la herramienta SII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c1c1c"/>
                </a:solidFill>
                <a:latin typeface="Arial"/>
                <a:ea typeface="Times New Roman"/>
              </a:rPr>
              <a:t>Que SIIAU facilite que sus usuarios generen reportes diversos tales como: financieros, parciales y globales, entre otros</a:t>
            </a:r>
            <a:r>
              <a:rPr b="0" lang="es-E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c1c1c"/>
                </a:solidFill>
                <a:latin typeface="Arial"/>
              </a:rPr>
              <a:t>Deberá presentarse de forma diferenciada la información de los proyectos con fondos distintos al ordinario: número de proyectos con fondo solo ordinario; número de proyectos con fondos ordinarios y otros; número de proyectos con fondos distintos a los ordinarios (cuidando en no contabilizarlos más de una vez en cada clasific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620640"/>
            <a:ext cx="8785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Geneva"/>
              </a:rPr>
              <a:t>- Como recomendaciones específicas a la herramienta SIIAU se anotan: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 monto de la meta en formato de proyecto deberá calcularse automá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Todas las variables involucradas cualitativas o cuantitativas deben estar disponibles en los “cubos de información”, tales como: el texto de las metas de los distintos planes con las que las metas del proyecto son alineadas; identificar las metas alineadas de las no alineadas en forma individual y no solo acumuladas por proyecto y poder identificar las metas cumplidas de las no cumpl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e en el caso de los reportes al seleccionar las respuestas de los distintos rubros el sistema permita prior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l rango que abarca el término “proyectos parcialmente alineados” es muy amplio, deberá calcularse en forma automática un porcentaje de alineación tomando como referente el total de metas en 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Es necesario que el instrumento en línea “Formato Integrador” cuente con un control que evite almacenar respuestas requeridas sin contestar (Bl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Que exista un campo auxiliar que identifique los proyectos que cambiaron de responsable en el “Cub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44640"/>
            <a:ext cx="889308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Geneva"/>
              </a:rPr>
              <a:t>Objetivo: Ofrecer elementos para la futura integración de una propuesta metodológica que dé estructura a la evaluación continua del Sistema P3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Continuar con la definición de los referentes para la eval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Avanzar en el establecimiento de políticas institucionales para la evaluación continua del Sistema P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Identificar y/o crear espacios en la estructura institucional para fortalecer el proceso de evaluación de la Red Univers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Contar con un sistema de indicadores institucionales para la Red y en línea, cuantitativos y cualitativos que reconozcan la diversidad de la i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Atender las demandas de capacitación y asesoría de los usuarios del sistema a lo largo del proceso y dar seguimiento al impacto de estas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Que la evaluación del Sistema P3E, permita retroalimentar los procesos institucionales, a través de reportes semestrales de proyectos y un reporte integrador anual por 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33"/>
                </a:solidFill>
                <a:latin typeface="Arial"/>
              </a:rPr>
              <a:t>Planear los tiempos, procedimientos y criterios institucionales para evaluar, tomando en cuenta los recursos humanos y materiales necesarios para 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372840" y="414972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Geneva"/>
              </a:rPr>
              <a:t>1ro de octubre de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4581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7080" y="6072120"/>
            <a:ext cx="32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neva"/>
              </a:rPr>
              <a:t>Comentarios: rgarcia@cusur.udg.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xperiencia obtenida durante los primeros meses de este ejercicio, permitió que a finales de septiembre de ese mismo año, se evaluara el diseño y funcionamiento del software en el que se incorporaron los proyectos del P3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o producto de dicha evaluación, se reestructuró el software (SIIAU) para el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blecieron las políticas y lineamientos para el desarrollo y operación financiera de los proyectos, mismas que quedaron contenidas en el presupuesto de ingreso y egresos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diciembre de 2003 se aprobó el presupuest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inistraciones programadas fluyeron más ág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93880" y="2030400"/>
            <a:ext cx="735480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Arial"/>
              </a:rPr>
              <a:t>Generar, a partir de un análisis cualitativo y cuantitativo de la implementación del Sistema P3E en el ejercicio 2003, información sistematizada como insumo para la toma de decisiones respecto a la actualización de las metas del PDI, así como para el mejoramiento de las normas, políticas y procedimientos asociados al P3E y a los instrumentos de los que se sirve para operar el SII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59480" y="260280"/>
            <a:ext cx="326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OBJETIV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16532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Arial"/>
              </a:rPr>
              <a:t>Identificar la alineación entre las metas plasmadas en el PDI, PD de la Entidad y PD de las 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Arial"/>
              </a:rPr>
              <a:t>Sistematizar la problemática durante el proceso de planeación, operación y gestión financiera de los proyectos evaluados, así como las propuestas de solución o mej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Arial"/>
              </a:rPr>
              <a:t>Detectar la problemática general del Sistema P3E a partir de los proyectos evaluados, así como sistematizar las propuestas para hacerlo más eficiente y perti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Arial"/>
              </a:rPr>
              <a:t>Ofrecer elementos para la futura integración de una propuesta metodológica que dé estructura a la evaluación continua del Sistema P3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2480" y="274680"/>
            <a:ext cx="5627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33"/>
                </a:solidFill>
                <a:latin typeface="Geneva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25920" y="260280"/>
            <a:ext cx="5194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 </a:t>
            </a:r>
            <a:r>
              <a:rPr b="1" lang="es-MX" sz="2400" spc="-1" strike="noStrike">
                <a:solidFill>
                  <a:srgbClr val="666633"/>
                </a:solidFill>
                <a:latin typeface="Genev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836640"/>
            <a:ext cx="7345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796320" indent="-108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Geneva"/>
              </a:rPr>
              <a:t>Acopio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Geneva"/>
              </a:rPr>
              <a:t>Sistematización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Plane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Operación de los Proyec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Gestión financiera de los proyec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Sistema P3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Genev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Geneva"/>
              </a:rPr>
              <a:t>Análisis e 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Reporte de Proyectos Aprobados del P3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Formato Integrador de Reportes de Proyectos por Entida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8520" indent="-696960">
              <a:lnSpc>
                <a:spcPct val="90000"/>
              </a:lnSpc>
              <a:spcBef>
                <a:spcPts val="425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3333"/>
                </a:solidFill>
                <a:latin typeface="Arial"/>
              </a:rPr>
              <a:t>Reporte de Evaluación por Entidad de la 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Genev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00"/>
                </a:solidFill>
                <a:latin typeface="Geneva"/>
              </a:rPr>
              <a:t>Conclusiones y prop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10800"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ara este ejercicio se consideraron la totalidad de los proyectos que fueron evaluados y no una muestra como suele hacerse en otras experiencias de evaluació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989000"/>
            <a:ext cx="2540160" cy="1079640"/>
          </a:xfrm>
          <a:prstGeom prst="rect">
            <a:avLst/>
          </a:prstGeom>
          <a:solidFill>
            <a:srgbClr val="ffa2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89000"/>
            <a:ext cx="270036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PROYECTO ALINE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DEBER SE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ODAS LAS METAS ESTÁN REGISTRADAS  COMO ALINE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581360"/>
            <a:ext cx="2521080" cy="1065240"/>
          </a:xfrm>
          <a:prstGeom prst="rect">
            <a:avLst/>
          </a:prstGeom>
          <a:solidFill>
            <a:srgbClr val="ffa2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2925720"/>
            <a:ext cx="2649600" cy="720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02360" y="4006800"/>
            <a:ext cx="2660760" cy="647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4941720"/>
            <a:ext cx="2694240" cy="6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060640"/>
            <a:ext cx="2694240" cy="64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4653000"/>
            <a:ext cx="29401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PROYECTO NO ALINE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DEBER SE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INGUNA META ALINE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773360"/>
            <a:ext cx="360360" cy="4103640"/>
          </a:xfrm>
          <a:custGeom>
            <a:avLst/>
            <a:gdLst>
              <a:gd name="textAreaLeft" fmla="*/ 0 w 360360"/>
              <a:gd name="textAreaRight" fmla="*/ 129960 w 360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7440" y="3114720"/>
            <a:ext cx="1935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Al momento de hacer la evaluación,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responsable de proyect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decidi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7960" y="3029040"/>
            <a:ext cx="2614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gistrar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odas las met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enos u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, como alineadas a uno o varios de los e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0800" y="4111560"/>
            <a:ext cx="253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gistrar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solo u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de las metas como alineada a uno de los e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25360"/>
            <a:ext cx="332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33"/>
                </a:solidFill>
                <a:latin typeface="Geneva"/>
                <a:ea typeface="Arial"/>
              </a:rPr>
              <a:t>CASOS DE CLASIFICACIÓN DE ALINEACIÓN DE PROYECTOS EVALUADOS A LOS EJES ESTRATÉGICOS DEL P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87760" y="353880"/>
            <a:ext cx="645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Geneva"/>
                <a:ea typeface="Arial"/>
              </a:rPr>
              <a:t>Alineación de Las Metas de los Proyectos Evaluados a los Ejes P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5084640"/>
            <a:ext cx="253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o registrar ninguna met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como aline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201760"/>
            <a:ext cx="261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gistrar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odas las met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como alineadas a uno o varios de los e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265560"/>
            <a:ext cx="2521080" cy="1112760"/>
          </a:xfrm>
          <a:prstGeom prst="rect">
            <a:avLst/>
          </a:prstGeom>
          <a:solidFill>
            <a:srgbClr val="ffa2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357720"/>
            <a:ext cx="25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ROYECTO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ARCIALMENT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ALIN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EBER S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L MENOS UNA META ALINE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6:38:56Z</dcterms:created>
  <dc:creator>vice</dc:creator>
  <dc:description/>
  <dc:language>en-US</dc:language>
  <cp:lastModifiedBy>joel</cp:lastModifiedBy>
  <dcterms:modified xsi:type="dcterms:W3CDTF">2004-09-30T03:28:00Z</dcterms:modified>
  <cp:revision>14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3502016</vt:r8>
  </property>
  <property fmtid="{D5CDD505-2E9C-101B-9397-08002B2CF9AE}" pid="3" name="_AuthorEmail">
    <vt:lpwstr>MayolaH@redudg.udg.mx</vt:lpwstr>
  </property>
  <property fmtid="{D5CDD505-2E9C-101B-9397-08002B2CF9AE}" pid="4" name="_AuthorEmailDisplayName">
    <vt:lpwstr>Haro del Toro, Mayola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